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Users\Arvore Criativa\Desktop\Tributo ao Futuro\Guia Crescer em Rede (Volume 3)\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8" descr="C:\Users\Arvore Criativa\Desktop\Tributo ao Futuro\Guia Crescer em Rede (Volume 3)\Cap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Retângulo 5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d0d0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CaixaDeTexto 6"/>
          <p:cNvSpPr/>
          <p:nvPr/>
        </p:nvSpPr>
        <p:spPr>
          <a:xfrm>
            <a:off x="1500120" y="3875040"/>
            <a:ext cx="721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Calibri"/>
              </a:rPr>
              <a:t>Crescer em Rede - Encontro 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tângulo 9"/>
          <p:cNvSpPr/>
          <p:nvPr/>
        </p:nvSpPr>
        <p:spPr>
          <a:xfrm>
            <a:off x="0" y="4500720"/>
            <a:ext cx="9144000" cy="1000080"/>
          </a:xfrm>
          <a:prstGeom prst="rect">
            <a:avLst/>
          </a:prstGeom>
          <a:solidFill>
            <a:srgbClr val="e46c0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aixaDeTexto 10"/>
          <p:cNvSpPr/>
          <p:nvPr/>
        </p:nvSpPr>
        <p:spPr>
          <a:xfrm>
            <a:off x="428760" y="4643280"/>
            <a:ext cx="828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Aluno repórt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Geração de mídias espontâneas com o Word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7"/>
          <p:cNvSpPr/>
          <p:nvPr/>
        </p:nvSpPr>
        <p:spPr>
          <a:xfrm>
            <a:off x="0" y="5500800"/>
            <a:ext cx="9144000" cy="13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Fundação Odebrecht"/>
          <p:cNvPicPr/>
          <p:nvPr/>
        </p:nvPicPr>
        <p:blipFill>
          <a:blip r:embed="rId2"/>
          <a:stretch/>
        </p:blipFill>
        <p:spPr>
          <a:xfrm>
            <a:off x="1571760" y="6099120"/>
            <a:ext cx="1357200" cy="34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http://www.institutocrescer.org.br/imagens/cabecalho_logo.jpg"/>
          <p:cNvPicPr/>
          <p:nvPr/>
        </p:nvPicPr>
        <p:blipFill>
          <a:blip r:embed="rId3"/>
          <a:stretch/>
        </p:blipFill>
        <p:spPr>
          <a:xfrm>
            <a:off x="142920" y="5929200"/>
            <a:ext cx="1285920" cy="609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C:\Users\Arvore Criativa\Google Drive\Slides Guia Crescer em Rede (Volume 3)\Slides modificados\unnamed.jpg"/>
          <p:cNvPicPr/>
          <p:nvPr/>
        </p:nvPicPr>
        <p:blipFill>
          <a:blip r:embed="rId4"/>
          <a:stretch/>
        </p:blipFill>
        <p:spPr>
          <a:xfrm>
            <a:off x="4000680" y="5913360"/>
            <a:ext cx="85716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C:\Users\Arvore Criativa\Google Drive\Slides Guia Crescer em Rede (Volume 3)\Slides modificados\Logomarca - NOVA.jpg"/>
          <p:cNvPicPr/>
          <p:nvPr/>
        </p:nvPicPr>
        <p:blipFill>
          <a:blip r:embed="rId5"/>
          <a:stretch/>
        </p:blipFill>
        <p:spPr>
          <a:xfrm>
            <a:off x="5000760" y="5786280"/>
            <a:ext cx="731880" cy="97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C:\Users\Arvore Criativa\Google Drive\Slides Guia Crescer em Rede (Volume 3)\Slides modificados\LOGO-NP.jpg"/>
          <p:cNvPicPr/>
          <p:nvPr/>
        </p:nvPicPr>
        <p:blipFill>
          <a:blip r:embed="rId6"/>
          <a:stretch/>
        </p:blipFill>
        <p:spPr>
          <a:xfrm>
            <a:off x="6000840" y="6040440"/>
            <a:ext cx="1214280" cy="46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"/>
          <p:cNvPicPr/>
          <p:nvPr/>
        </p:nvPicPr>
        <p:blipFill>
          <a:blip r:embed="rId7"/>
          <a:stretch/>
        </p:blipFill>
        <p:spPr>
          <a:xfrm>
            <a:off x="3071880" y="6046920"/>
            <a:ext cx="744480" cy="45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http://salaaberta.files.wordpress.com/2013/04/net-educacao.jpg"/>
          <p:cNvPicPr/>
          <p:nvPr/>
        </p:nvPicPr>
        <p:blipFill>
          <a:blip r:embed="rId8"/>
          <a:stretch/>
        </p:blipFill>
        <p:spPr>
          <a:xfrm>
            <a:off x="7478640" y="5958000"/>
            <a:ext cx="1463760" cy="63180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10"/>
          <p:cNvSpPr/>
          <p:nvPr/>
        </p:nvSpPr>
        <p:spPr>
          <a:xfrm>
            <a:off x="4857840" y="559584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a3400"/>
                </a:solidFill>
                <a:latin typeface="Calibri"/>
              </a:rPr>
              <a:t>Apoi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ixaDeTexto 4"/>
          <p:cNvSpPr/>
          <p:nvPr/>
        </p:nvSpPr>
        <p:spPr>
          <a:xfrm>
            <a:off x="5000760" y="1897200"/>
            <a:ext cx="3786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84807"/>
                </a:solidFill>
                <a:latin typeface="Calibri"/>
              </a:rPr>
              <a:t>Que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Um homem que havia sido algem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84807"/>
                </a:solidFill>
                <a:latin typeface="Calibri"/>
              </a:rPr>
              <a:t>O qu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Tomou o volante de uma ambulância do S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84807"/>
                </a:solidFill>
                <a:latin typeface="Calibri"/>
              </a:rPr>
              <a:t>Qua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Neste sábado, dia 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84807"/>
                </a:solidFill>
                <a:latin typeface="Calibri"/>
              </a:rPr>
              <a:t>Ond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Pátio da PRF em Osório,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84807"/>
                </a:solidFill>
                <a:latin typeface="Calibri"/>
              </a:rPr>
              <a:t>Por 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Acabara de ter um surto psicó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aptura de Tela 2014-08-11 às 12.42.14.png"/>
          <p:cNvPicPr/>
          <p:nvPr/>
        </p:nvPicPr>
        <p:blipFill>
          <a:blip r:embed="rId1"/>
          <a:stretch/>
        </p:blipFill>
        <p:spPr>
          <a:xfrm>
            <a:off x="563400" y="1428840"/>
            <a:ext cx="4019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CaixaDeTexto 4"/>
          <p:cNvSpPr/>
          <p:nvPr/>
        </p:nvSpPr>
        <p:spPr>
          <a:xfrm>
            <a:off x="4929120" y="13572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84807"/>
                </a:solidFill>
                <a:latin typeface="Calibri"/>
              </a:rPr>
              <a:t>Exemplo de 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ixaDeTexto 4"/>
          <p:cNvSpPr/>
          <p:nvPr/>
        </p:nvSpPr>
        <p:spPr>
          <a:xfrm>
            <a:off x="500040" y="6000840"/>
            <a:ext cx="378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404040"/>
                </a:solidFill>
                <a:uFillTx/>
                <a:latin typeface="Calibri"/>
              </a:rPr>
              <a:t>http://goo.gl/jIrDU7 </a:t>
            </a:r>
            <a:r>
              <a:rPr b="0" lang="en-US" sz="1100" spc="-1" strike="noStrike">
                <a:solidFill>
                  <a:srgbClr val="984807"/>
                </a:solidFill>
                <a:latin typeface="Calibri"/>
              </a:rPr>
              <a:t>acessado em 10/08/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ixaDeTexto 4"/>
          <p:cNvSpPr/>
          <p:nvPr/>
        </p:nvSpPr>
        <p:spPr>
          <a:xfrm>
            <a:off x="428760" y="2071800"/>
            <a:ext cx="8286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s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tecnologias digitai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são aliadas fundamentais dos estudantes em todas as etapas do processo de produção d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reportagem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assim como o são para os próprios jornalistas profissionais. Ferramentas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esquisa on-line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costumam ser o melhor ponto de partida (pré-apuração) e exigem, simultaneamente, que se exercite 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hecagem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de veracidade de fatos e fonte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busca de contatos para a realização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entrevista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também pode começar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na Internet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sem que, para isso, os caminhos de um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luno-repórter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sejam necessariamente simples: é precis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riatividade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para encontrar respostas e obter retornos posi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4"/>
          <p:cNvSpPr/>
          <p:nvPr/>
        </p:nvSpPr>
        <p:spPr>
          <a:xfrm>
            <a:off x="428760" y="1714680"/>
            <a:ext cx="8286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Web 2.0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caba sendo, portanto, um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fonte de informaçõe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mas também um lugar para o qual é possível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fornecer novos dado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ou seja, quando o aluno-repórter cria conteúdo para um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blog, wiki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ou par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redes sociai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baseado em informações apreendidas da própria web, e associadas às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declarações de entrevistado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ele se integra, de maneira mais plena, ao ciclo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mpartilhament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nstrução de conheciment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inerentes à essa platafor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noção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responsabilidade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sobre o que é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mpartilhad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também é um valor agregado ao processo: quando se sabe o caminho par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identificar uma informação verdadeira e de qualidade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é maior a vontade de s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roduzir conteúd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com as mesmas características.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Word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ixaDeTexto 4"/>
          <p:cNvSpPr/>
          <p:nvPr/>
        </p:nvSpPr>
        <p:spPr>
          <a:xfrm>
            <a:off x="428760" y="1357200"/>
            <a:ext cx="8286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Que tal criar um blog para alimentar com conteúdo jornalístico? Em grupo, vamos criar nossa conta n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Wordpres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ara criar uma conta no wordpress, acesse 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Calibri"/>
              </a:rPr>
              <a:t>https://br.wordpress.com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Digite, na linha indicada, o endereço que gostaria para o seu blog e clique no botão “Criar si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571840" y="2928960"/>
            <a:ext cx="4887720" cy="304164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3857760" y="4000680"/>
            <a:ext cx="2563560" cy="57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Word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ixaDeTexto 4"/>
          <p:cNvSpPr/>
          <p:nvPr/>
        </p:nvSpPr>
        <p:spPr>
          <a:xfrm>
            <a:off x="428760" y="1357200"/>
            <a:ext cx="82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reencha o formulário com suas informações pesso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773360" y="2133720"/>
            <a:ext cx="579600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Word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4"/>
          <p:cNvSpPr/>
          <p:nvPr/>
        </p:nvSpPr>
        <p:spPr>
          <a:xfrm>
            <a:off x="428760" y="1506600"/>
            <a:ext cx="82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Depois de escolher um endereço para o blog,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que esteja disponível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opte por uma versão gratu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71680" y="3141720"/>
            <a:ext cx="7860960" cy="952560"/>
          </a:xfrm>
          <a:prstGeom prst="rect">
            <a:avLst/>
          </a:prstGeom>
          <a:ln w="0">
            <a:noFill/>
          </a:ln>
        </p:spPr>
      </p:pic>
      <p:sp>
        <p:nvSpPr>
          <p:cNvPr id="92" name="Oval 10"/>
          <p:cNvSpPr/>
          <p:nvPr/>
        </p:nvSpPr>
        <p:spPr>
          <a:xfrm>
            <a:off x="5756400" y="2924280"/>
            <a:ext cx="252072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Word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4"/>
          <p:cNvSpPr/>
          <p:nvPr/>
        </p:nvSpPr>
        <p:spPr>
          <a:xfrm>
            <a:off x="428760" y="1506600"/>
            <a:ext cx="82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Desça a barra de rolagem à direita e clique em “Criar Blog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3000240"/>
            <a:ext cx="9144000" cy="2040120"/>
          </a:xfrm>
          <a:prstGeom prst="rect">
            <a:avLst/>
          </a:prstGeom>
          <a:ln w="0">
            <a:noFill/>
          </a:ln>
        </p:spPr>
      </p:pic>
      <p:sp>
        <p:nvSpPr>
          <p:cNvPr id="96" name="Oval 2"/>
          <p:cNvSpPr/>
          <p:nvPr/>
        </p:nvSpPr>
        <p:spPr>
          <a:xfrm>
            <a:off x="2268360" y="3360600"/>
            <a:ext cx="1943280" cy="86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Word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4"/>
          <p:cNvSpPr/>
          <p:nvPr/>
        </p:nvSpPr>
        <p:spPr>
          <a:xfrm>
            <a:off x="428760" y="1506600"/>
            <a:ext cx="36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1.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pós digitar título e slogan para o blog, clique no botão “próxima etap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4"/>
          <p:cNvSpPr/>
          <p:nvPr/>
        </p:nvSpPr>
        <p:spPr>
          <a:xfrm>
            <a:off x="4714920" y="435780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2.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scolha o tema do blog e clique no botão “próxima etap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376880" y="1119240"/>
            <a:ext cx="4608360" cy="285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131760" y="3394080"/>
            <a:ext cx="4448160" cy="2778120"/>
          </a:xfrm>
          <a:prstGeom prst="rect">
            <a:avLst/>
          </a:prstGeom>
          <a:ln w="0">
            <a:noFill/>
          </a:ln>
        </p:spPr>
      </p:pic>
      <p:cxnSp>
        <p:nvCxnSpPr>
          <p:cNvPr id="102" name="Conexão reta unidirecional 2"/>
          <p:cNvCxnSpPr/>
          <p:nvPr/>
        </p:nvCxnSpPr>
        <p:spPr>
          <a:xfrm>
            <a:off x="4932000" y="2060280"/>
            <a:ext cx="4323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3" name="Oval 11"/>
          <p:cNvSpPr/>
          <p:nvPr/>
        </p:nvSpPr>
        <p:spPr>
          <a:xfrm>
            <a:off x="7236000" y="3533760"/>
            <a:ext cx="1223640" cy="453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2916360" y="5719680"/>
            <a:ext cx="1222200" cy="452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Word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ixaDeTexto 4"/>
          <p:cNvSpPr/>
          <p:nvPr/>
        </p:nvSpPr>
        <p:spPr>
          <a:xfrm>
            <a:off x="428760" y="1506600"/>
            <a:ext cx="278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3.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nfirme a escolha do tema clicando no botão “próxima etap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ixaDeTexto 4"/>
          <p:cNvSpPr/>
          <p:nvPr/>
        </p:nvSpPr>
        <p:spPr>
          <a:xfrm>
            <a:off x="4857840" y="4857840"/>
            <a:ext cx="37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4.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aso queira compartilhar o seu blog, escolha a opção e clique no botão “próxima etap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183200" y="1268280"/>
            <a:ext cx="4814640" cy="309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179280" y="3344760"/>
            <a:ext cx="4392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Word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4"/>
          <p:cNvSpPr/>
          <p:nvPr/>
        </p:nvSpPr>
        <p:spPr>
          <a:xfrm>
            <a:off x="428760" y="4071960"/>
            <a:ext cx="221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cesse seu email para confirmar a inscrição no Word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558880" y="1816200"/>
            <a:ext cx="6250320" cy="682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3071880" y="2786040"/>
            <a:ext cx="52228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aixaDeTexto 7"/>
          <p:cNvSpPr/>
          <p:nvPr/>
        </p:nvSpPr>
        <p:spPr>
          <a:xfrm>
            <a:off x="428760" y="221472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Quando alguma notícia importante sai na mídia, vocês costumam levar para a sala de aula e debater o assunto com os alunos? Vocês estimulam a análise crítica da mesma informação em diferentes meios de comunicação? Como eles reagem a este tipo de atividad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 trabalhar com a produção de matérias jornalísticas? Vocês já vivenciaram este tipo de atividade com seus alunos? Como foi a participação de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erguntas desaf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ângulo 5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6"/>
          <p:cNvSpPr/>
          <p:nvPr/>
        </p:nvSpPr>
        <p:spPr>
          <a:xfrm>
            <a:off x="428760" y="128592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Refli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Tutorial Word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4"/>
          <p:cNvSpPr/>
          <p:nvPr/>
        </p:nvSpPr>
        <p:spPr>
          <a:xfrm>
            <a:off x="571680" y="4143240"/>
            <a:ext cx="321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Digite o título do Post e o texto nas caixas. É possível adicionar imagens, fazer hiperlinks, criar tags e formatar o texto da forma desej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4"/>
          <p:cNvSpPr/>
          <p:nvPr/>
        </p:nvSpPr>
        <p:spPr>
          <a:xfrm>
            <a:off x="5715000" y="200016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Para criar seu primeiro post (ou reportagem), clicar no botão ind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4187880" y="3303720"/>
            <a:ext cx="4763880" cy="2862000"/>
          </a:xfrm>
          <a:prstGeom prst="rect">
            <a:avLst/>
          </a:prstGeom>
          <a:ln w="0">
            <a:noFill/>
          </a:ln>
        </p:spPr>
      </p:pic>
      <p:cxnSp>
        <p:nvCxnSpPr>
          <p:cNvPr id="118" name="AutoShape 6"/>
          <p:cNvCxnSpPr/>
          <p:nvPr/>
        </p:nvCxnSpPr>
        <p:spPr>
          <a:xfrm flipH="1" flipV="1">
            <a:off x="5478120" y="1407240"/>
            <a:ext cx="822960" cy="361080"/>
          </a:xfrm>
          <a:prstGeom prst="straightConnector1">
            <a:avLst/>
          </a:prstGeom>
          <a:ln w="57240">
            <a:solidFill>
              <a:srgbClr val="984807"/>
            </a:solidFill>
            <a:miter/>
            <a:tailEnd len="med" type="triangle" w="med"/>
          </a:ln>
        </p:spPr>
      </p:cxn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96840" y="1279440"/>
            <a:ext cx="52671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tividade de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ixaDeTexto 7"/>
          <p:cNvSpPr/>
          <p:nvPr/>
        </p:nvSpPr>
        <p:spPr>
          <a:xfrm>
            <a:off x="428760" y="1285920"/>
            <a:ext cx="7786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gora que os blogs estão criados, cada grupo deve fazer uma reunião de pauta para definir um acontecimento recente da comunidade escolar e/ou de seu entorno que mereça ser noticiado em seu blog e as formas de torná-lo notícia.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nde é possível conseguir as informações necessárias a respei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Quem pode ser entrevistado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 que pergunt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Que imagem poderia ilustrar o aconteciment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o redigir um esboço da transmissão dessa mensagem seguindo preceitos jornalísticos de redação de uma notícia breve, como o lid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tividade de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ixaDeTexto 7"/>
          <p:cNvSpPr/>
          <p:nvPr/>
        </p:nvSpPr>
        <p:spPr>
          <a:xfrm>
            <a:off x="428760" y="1714680"/>
            <a:ext cx="7786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Saiam a campo para levantar as informações necessárias para a notícia e/ou pesquisem na Intern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 as informações colhidas em mãos, é necessário organizá-las e selecionar a matéria-prima do lide do texto, para então desenvolver o restante. Registrem tudo no blog criado por você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Quando finalizarem, compartilhem os resultados (endereço do blog) com os colegas do encontro para que eles possam ler a notícia que vocês postaram e fazer comentá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tividade de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ixaDeTexto 7"/>
          <p:cNvSpPr/>
          <p:nvPr/>
        </p:nvSpPr>
        <p:spPr>
          <a:xfrm>
            <a:off x="428760" y="1714680"/>
            <a:ext cx="828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gora, cada grupo deverá planejar uma atividade para ser realizada com os alunos utilizando como recursos o Wordpress e os conceitos jornalísticos explorados na atividade de experiment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proveite, este momento, para deixar os alunos explorarem temas que tenham interesse. Trabalhando, desta forma, vocês tirarão o foco do conteúdo e valorizarão o desenvolvimento de habilidades como prevê os PC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tividade de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ixaDeTexto 7"/>
          <p:cNvSpPr/>
          <p:nvPr/>
        </p:nvSpPr>
        <p:spPr>
          <a:xfrm>
            <a:off x="428760" y="1714680"/>
            <a:ext cx="7786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 planejamento da atividade deve ser feito na folha com o modelo para plano de aula distribuído pelo facilita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OBS: O modelo sugerido para o planejamento da atividade segue a sequência didática utilizada em todos os encontros no Guia Crescer em Rede, ou seja, contempla momentos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qu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presentação conceitual e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xperiment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val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Síntese e avaliação do enco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ixaDeTexto 7"/>
          <p:cNvSpPr/>
          <p:nvPr/>
        </p:nvSpPr>
        <p:spPr>
          <a:xfrm>
            <a:off x="357120" y="1357200"/>
            <a:ext cx="7643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presentação conceitual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foi esclarecedora para vocês, no sentido de fazer vocês entenderem o que signific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educomunicaçã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e o uso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tecnologias digitais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no processo pedagóg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conta n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Wordpres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foi criada? Vocês conseguiram aprender, ao menos, o mínimo sobre o uso dessa ferramen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ntenderam como definir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auta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interessantes e produzir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notícia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para o blo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Foi possível planejar atividades par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instigar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os alunos a protagonizar o processo, fazendo um bom uso das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tecnologias digitai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e dos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nceitos jornalístico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gora, para finalizar, vamos preencher 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valiação do Encontr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aixaDeTexto 7"/>
          <p:cNvSpPr/>
          <p:nvPr/>
        </p:nvSpPr>
        <p:spPr>
          <a:xfrm>
            <a:off x="428760" y="228600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E trabalhar este tipo de proposta tendo o apoio das tecnologias digitais? Alguém já desenvolveu um trabalho como este? Como foi a experiênc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De uma forma geral, na percepção de vocês, a produção de reportagens com suporte das tecnologias digitais pode colaborar para desenvolver quais competências e habilidades nos educandos? O que mais eles podem ganhar ao vivenciar uma experiência como es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erguntas desaf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6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ângulo 6"/>
          <p:cNvSpPr/>
          <p:nvPr/>
        </p:nvSpPr>
        <p:spPr>
          <a:xfrm>
            <a:off x="428760" y="128592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Refli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4"/>
          <p:cNvSpPr/>
          <p:nvPr/>
        </p:nvSpPr>
        <p:spPr>
          <a:xfrm>
            <a:off x="428760" y="1428840"/>
            <a:ext cx="814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Iniciativa, senso crítico, colaboração, capacidade de conectar conteúdos e comunicação eficaz têm sido, cada vez mais, habilidades necessárias a qualquer pessoa, independentemente dos caminhos por ela escolh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Com esse conjunto de características, é possível apreender informação e conhecimento de forma crítica, trocá-los com pares de maneira a manter uma rica experiência de formulação de ideias, transformando-as em práticas inovadoras concr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primorar o desenvolvimento dessas habilidades na escola promove, para além de uma boa formação dos estudantes para o futuro, subsídios positivos para o processo de aprendizagem em sua integralidade. A educomunicação com uso das tecnologias digitais é um caminho interessante para 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4"/>
          <p:cNvSpPr/>
          <p:nvPr/>
        </p:nvSpPr>
        <p:spPr>
          <a:xfrm>
            <a:off x="428760" y="2571840"/>
            <a:ext cx="814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Integrar às práticas educativas o estudo sistemático dos sistemas de comunicação; criar e fortalecer ecossistemas comunicativos em espaços educativos; melhorar o coeficiente expressivo e comunicativo das ações educativas” - Ismar de Oliveira Soares em “Mas, afinal, o que é educomunicação?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(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Calibri"/>
              </a:rPr>
              <a:t>http://www.usp.br/nce/aeducomunicacao/saibamais/textos/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ângulo 6"/>
          <p:cNvSpPr/>
          <p:nvPr/>
        </p:nvSpPr>
        <p:spPr>
          <a:xfrm>
            <a:off x="500040" y="13143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Mas o que é educomunic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6"/>
          <p:cNvSpPr/>
          <p:nvPr/>
        </p:nvSpPr>
        <p:spPr>
          <a:xfrm>
            <a:off x="0" y="1357200"/>
            <a:ext cx="500040" cy="2858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4"/>
          <p:cNvSpPr/>
          <p:nvPr/>
        </p:nvSpPr>
        <p:spPr>
          <a:xfrm>
            <a:off x="428760" y="1571760"/>
            <a:ext cx="814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Na prática é a experiência de incentivar alunas e alunos 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ensar a comunicação, produzir seus próprios veículo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utilizar as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redes sociai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de maneira útil e consciente (aliadas que são desse processo), mantendo a intimidade com as ferramentas disponibilizadas pelas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tecnologias digitai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. É atender aos princípios da educomunicação de forma a inseri-la em um contexto ainda mais amplo de aprendizagem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 formação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lunos-repórteres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vai além da proposição de colocar estudantes em contato com os macetes de uma profissão específica (a de jornalista) para conhecê-la melhor. À medida que eles associam preceitos gerais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municaçã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desenvolvem habilidades úteis à formação de qualquer pesso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4"/>
          <p:cNvSpPr/>
          <p:nvPr/>
        </p:nvSpPr>
        <p:spPr>
          <a:xfrm>
            <a:off x="428760" y="1571760"/>
            <a:ext cx="814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Levantamento de pauta, apuração de dados, definição de fontes, preparação de entrevistas, seleção de informações, redação, edição e revisão de textos são partes do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rocesso básico de produção de uma reportagem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que contêm uma série d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benefícios agregados à educaçã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prender 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esquisar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e 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hecar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fatos, saber utilizar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técnicas de comunicaçã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em uma entrevista, ter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iniciativa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bom sens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na proposição de perguntas, exercitar a imparcialidade e a formação de opiniões, construir uma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rgumentaçã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a partir de premissas próprias conquistadas na pesquisa,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detectar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informações mais relevantes 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atentar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 para a forma mais eficiente de se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comunicar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, se apoderando de conhecimentos para construir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um bom texto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4"/>
          <p:cNvSpPr/>
          <p:nvPr/>
        </p:nvSpPr>
        <p:spPr>
          <a:xfrm>
            <a:off x="428760" y="1357200"/>
            <a:ext cx="8143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São conceitos básicos do jornalis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Pauta: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assunto a ser transformado em notícia. A pauta precisa definir o foco do texto e, a partir disso, quem será entrevistado, quais perguntas serão feitas a eles e que imagens podem ajudar a compor a matéria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Entrevista: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uma conversa em que se obtém informações a respeito de determinado assunto. Ela deve ser realizada preferencialmente ao vivo, mas também pode acontecer por telefone ou e-ma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Fonte: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é quem concede a entrevista. Deve ser, necessariamente, alguém envolvido com o tema da pauta, seja de forma ativa, como produtor de algum conhecimento específico, seja de forma passiva, como alguém que viveu determinada experiência e pode, por isso, relatar algo a respe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CaixaDeTexto 8"/>
          <p:cNvSpPr/>
          <p:nvPr/>
        </p:nvSpPr>
        <p:spPr>
          <a:xfrm>
            <a:off x="428760" y="538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Apresentação conceitual e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4"/>
          <p:cNvSpPr/>
          <p:nvPr/>
        </p:nvSpPr>
        <p:spPr>
          <a:xfrm>
            <a:off x="428760" y="2071800"/>
            <a:ext cx="8286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Notícia: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texto curto que informa um acontecimento, construído a partir do conjunto de informações colhidas previamente. Deve ser conciso e ir direto ao ponto nas primeiras linhas, para depois ser desenvolvido com mais alguns detalh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Lide: </a:t>
            </a:r>
            <a:r>
              <a:rPr b="0" lang="pt-BR" sz="2000" spc="-1" strike="noStrike">
                <a:solidFill>
                  <a:srgbClr val="984807"/>
                </a:solidFill>
                <a:latin typeface="Calibri"/>
              </a:rPr>
              <a:t>é como chamamos a primeira parte do texto. Nele, esclarecemos as primeiras dúvidas que o leitor tem: </a:t>
            </a:r>
            <a:r>
              <a:rPr b="1" lang="pt-BR" sz="2000" spc="-1" strike="noStrike">
                <a:solidFill>
                  <a:srgbClr val="984807"/>
                </a:solidFill>
                <a:latin typeface="Calibri"/>
              </a:rPr>
              <a:t>Quem? O que? Quando? Onde?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20:31:07Z</dcterms:created>
  <dc:creator>Augusto</dc:creator>
  <dc:description/>
  <dc:language>en-US</dc:language>
  <cp:lastModifiedBy>Ju Ribeiro</cp:lastModifiedBy>
  <dcterms:modified xsi:type="dcterms:W3CDTF">2014-09-08T19:14:40Z</dcterms:modified>
  <cp:revision>213</cp:revision>
  <dc:subject/>
  <dc:title>Slide 1</dc:title>
</cp:coreProperties>
</file>